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Musica%20Menu%20Popu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97D-FF3C-4891-B999-3E629C37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967-87BC-4309-A308-3DE8A3F1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A4E-2A93-480B-BEE1-46CE1C97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735-594F-4E72-84AD-4F82E472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F63-17FE-4176-A57B-C945A9A7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78C-4CFE-4ED2-B34C-81D29F07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ECD-3597-42AD-8D15-69E84ACA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5CB-1D18-414E-8E63-59A9477F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DD4-4E14-4481-9937-21BE8D06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41E-F2B0-475F-8FE7-082E1E6D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C2A-9EE9-4D1F-92DC-B5D8E6E9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DB6-F111-4497-8F30-28A0A83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A05F-B9BB-4D57-B062-A7BF95B80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Musica%20Menu%20Popu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685800"/>
            <a:ext cx="41148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add you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n text and pi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to each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r use Insert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lete this slide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’ve fin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09480"/>
            <a:ext cx="4038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py slide 3 as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s a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45720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3440" y="1295280"/>
            <a:ext cx="3233160" cy="82512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Book Ti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5640" y="5334120"/>
            <a:ext cx="2545920" cy="5205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By You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  <a:hlinkClick r:id="rId3"/>
          </p:cNvPr>
          <p:cNvSpPr/>
          <p:nvPr/>
        </p:nvSpPr>
        <p:spPr>
          <a:xfrm>
            <a:off x="800100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685800"/>
            <a:ext cx="41148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5720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33520" y="609480"/>
            <a:ext cx="403848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609480"/>
            <a:ext cx="35049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r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harterp</cp:lastModifiedBy>
  <dcterms:modified xsi:type="dcterms:W3CDTF">2008-01-08T16:28:19Z</dcterms:modified>
  <cp:revision>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